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EA18-E27A-4D0D-B07A-78FE30008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FCAD-9DD6-4AE3-9067-C9A9B07F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5870-2C68-4C45-B0AE-2C671C088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3748-9BF6-4D34-954F-CD15ADA74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57898-9612-4453-B016-C85DBCB9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FB17C-C4CA-4E3E-A822-113714B0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6D784-A0D2-4883-8BF1-43252FFE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4E48E-C70D-4F1D-8842-5B42FB39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4F54C-750C-4AEC-A86B-8576B298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929F5-2C17-43C2-8450-ECD9B9E8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86F5E-8339-4B06-BBEA-23C86FD9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C5C9-79B7-4B7F-AAAC-7ACCF0DC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9773B-C76E-4B2C-85FC-3C3505E8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9262C-BDB6-40AA-B472-F16AC487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588A8-5E73-4B77-9F63-6F74D9E4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F3E70-F4E4-4DCB-B16B-10AD9B8B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0CAF7-69EF-4ECE-BA16-B111429C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73CE-9542-4B10-BD79-F8E3357F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DF32-E65E-4530-B485-F4DD1640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B5D2-4798-42F2-A838-9C768183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9C44-1507-4897-9689-DEA813D1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9D55-91FB-4922-BED6-EB94CBCD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05C7-1E4B-4F09-A8DA-F6C846BE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624C-63C0-4AB8-AFA2-9471D747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AF23-C3A0-459A-AF8F-2E759B6E84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0498-E8A9-4621-938A-16A00EFE88F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lib.exdat.com/tw_files2/urls_13/5/d-4391/4391_html_55c9dbfd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122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тская агрессия. Причины и последствия детской агресс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137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едагог-психолог Цыганкова Д.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едагог-психолог Лазеева А.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Рисунок 3" descr="http://lib.exdat.com/tw_files2/urls_13/5/d-4391/4391_html_55c9dbfd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2205000"/>
            <a:ext cx="260172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ределение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у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вня агрессивности у ребен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ложительный ответ на каждое предложенное утверждение оценивается в 1 бал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сокая агрессивность – 15-20 балл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редняя агрессивность – 7-14 балл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изкая агрессивность – 1-6 балл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емы эффективного взаимодействия с агрессивными деть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Я-высказывание»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это прием и способ, с помощью которого взрослый сообщает ребенку о своих чувствах и отрицательных переживаниях, а не о ребёнке и его поведении, которое это переживание вызвало (в отличие от «Ты-высказываний). «Я-высказывание» всегда начинается с личных местоимений: я, мне, мен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емы эффективного взаимодействия с агрессивными деть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2f2f2"/>
                </a:solidFill>
                <a:latin typeface="Times New Roman"/>
                <a:ea typeface="Calibri"/>
              </a:rPr>
              <a:t>В </a:t>
            </a:r>
            <a:r>
              <a:rPr b="1" lang="ru-RU" sz="2600" spc="-1" strike="noStrike">
                <a:solidFill>
                  <a:srgbClr val="38ff38"/>
                </a:solidFill>
                <a:latin typeface="Times New Roman"/>
                <a:ea typeface="Calibri"/>
              </a:rPr>
              <a:t>зеленую зону</a:t>
            </a:r>
            <a:r>
              <a:rPr b="0" lang="ru-RU" sz="2600" spc="-1" strike="noStrike">
                <a:solidFill>
                  <a:srgbClr val="38ff38"/>
                </a:solidFill>
                <a:latin typeface="Times New Roman"/>
                <a:ea typeface="Calibri"/>
              </a:rPr>
              <a:t> </a:t>
            </a:r>
            <a:r>
              <a:rPr b="0" lang="ru-RU" sz="2600" spc="-1" strike="noStrike">
                <a:solidFill>
                  <a:srgbClr val="f2f2f2"/>
                </a:solidFill>
                <a:latin typeface="Times New Roman"/>
                <a:ea typeface="Calibri"/>
              </a:rPr>
              <a:t>помещается то, что разрешается делать ребенку по его собственному усмотрению и желанию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2f2f2"/>
                </a:solidFill>
                <a:latin typeface="Times New Roman"/>
                <a:ea typeface="Calibri"/>
              </a:rPr>
              <a:t>В </a:t>
            </a:r>
            <a:r>
              <a:rPr b="1" lang="ru-RU" sz="2600" spc="-1" strike="noStrike">
                <a:solidFill>
                  <a:srgbClr val="ffff00"/>
                </a:solidFill>
                <a:latin typeface="Times New Roman"/>
                <a:ea typeface="Calibri"/>
              </a:rPr>
              <a:t>желтой зоне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Calibri"/>
              </a:rPr>
              <a:t> </a:t>
            </a:r>
            <a:r>
              <a:rPr b="0" lang="ru-RU" sz="2600" spc="-1" strike="noStrike">
                <a:solidFill>
                  <a:srgbClr val="f2f2f2"/>
                </a:solidFill>
                <a:latin typeface="Times New Roman"/>
                <a:ea typeface="Calibri"/>
              </a:rPr>
              <a:t>ребенку предоставляется право действовать по собственному выбору, но в пределах определенных границ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2f2f2"/>
                </a:solidFill>
                <a:latin typeface="Times New Roman"/>
                <a:ea typeface="Calibri"/>
              </a:rPr>
              <a:t>В </a:t>
            </a:r>
            <a:r>
              <a:rPr b="1" lang="ru-RU" sz="2600" spc="-1" strike="noStrike">
                <a:solidFill>
                  <a:srgbClr val="e2702a"/>
                </a:solidFill>
                <a:latin typeface="Times New Roman"/>
                <a:ea typeface="Calibri"/>
              </a:rPr>
              <a:t>оранжевой зоне</a:t>
            </a:r>
            <a:r>
              <a:rPr b="0" lang="ru-RU" sz="2600" spc="-1" strike="noStrike">
                <a:solidFill>
                  <a:srgbClr val="f2f2f2"/>
                </a:solidFill>
                <a:latin typeface="Times New Roman"/>
                <a:ea typeface="Calibri"/>
              </a:rPr>
              <a:t> находятся такие действия ребенка, которые родителем уже не приветствуются, но ввиду особых обстоятельств допускаются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2f2f2"/>
                </a:solidFill>
                <a:latin typeface="Times New Roman"/>
                <a:ea typeface="Calibri"/>
              </a:rPr>
              <a:t>К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Calibri"/>
              </a:rPr>
              <a:t>красной зоне </a:t>
            </a:r>
            <a:r>
              <a:rPr b="0" lang="ru-RU" sz="2600" spc="-1" strike="noStrike">
                <a:solidFill>
                  <a:srgbClr val="f2f2f2"/>
                </a:solidFill>
                <a:latin typeface="Times New Roman"/>
                <a:ea typeface="Calibri"/>
              </a:rPr>
              <a:t>относятся те действия ребенка, которые «не приемлемы ни при каких обстоятельствах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Calibri"/>
              </a:rPr>
              <a:t>Договорное соглашение с ребенк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052640"/>
          <a:ext cx="8229600" cy="5468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Пожелания родителей (правила, требования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Пожелания ребенка (правила и требования для родителей) (мальчик 11 лет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4164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Делать уроки до 8 часов вечер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Мыть за собой посуду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Убирать за собой постель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Перестать употреблять ругательные выражения по отношению к младшей сестр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Говорить уважительно с родителям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Перестать бить меня ремне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Не давать мне подзатыльник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Перестать меня обзывать (причем выражения со стороны родителей те же, что и ребенка по отношению к младшей сестре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Не кричать, а просто сказать, что от меня нужно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Говорить мне «спасибо», когда что-то делаю по просьбе родителе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Замечать и хвалить, когда сам что-то сделал без просьбы родителей (купил хлеб, помыл за всеми посуду и т.п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филактика агрессивного поведения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обходимо быть последовательными в своих действиях по отношению к детя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ебования, предъявляемые детям, должны быть разумны, а на их выполнении надо настаивать, ясно давая детям понять, чего от них жду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едует избегать неоправданного применения силы и угроз для контроля поведения дет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мочь ребенку научиться владеть собой, развивать у него чувство контрол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ать понять ребенку, что агрессивное поведение никогда не принесет выг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филактика агрессивного поведения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учите ребенка говорить о своих переживаниях, называть вещи своими именами: «я разозлился», «я обиделся», «я расстроился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 обзывайте ребенка глупым, тупым и т.д. – он будет так же вести себя с другими деть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ем больше будет агрессии с вашей стороны, тем больше враждебности зародится в душе ребен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огда ребенку нужно просто понимание, и одно лишь ласковое слово способно снять его озлобл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грессивное поведение у детей - это своеобразный сигнал SOS, крик о помощи, о внимании к своему внутреннему миру, в котором накопилось слишком много разрушительных эмоций, с которыми ребёнок справиться не в силах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95280" y="475920"/>
            <a:ext cx="8137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еловек обладает способностью люби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если он не может найти применения свое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особности любить, он способен ненавиде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являя агрессию и жестокость. Этим средств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н руководствуется как бегством от собственно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ушевной бо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рих Фром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ffff00"/>
                </a:solidFill>
                <a:latin typeface="Times New Roman"/>
              </a:rPr>
              <a:t>Агрессия – это поведение, которое причиняет вред предметам, человеку или группе людей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4" descr="BABY8"/>
          <p:cNvPicPr/>
          <p:nvPr/>
        </p:nvPicPr>
        <p:blipFill>
          <a:blip r:embed="rId1"/>
          <a:stretch/>
        </p:blipFill>
        <p:spPr>
          <a:xfrm>
            <a:off x="5292720" y="3213000"/>
            <a:ext cx="2882880" cy="309564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54936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оявления агрес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физическая             вербаль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аутоагресс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иды агрес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инструментальная   враждеб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90" name="Прямая со стрелкой 4"/>
          <p:cNvCxnSpPr/>
          <p:nvPr/>
        </p:nvCxnSpPr>
        <p:spPr>
          <a:xfrm flipH="1">
            <a:off x="3058560" y="1052640"/>
            <a:ext cx="649800" cy="79272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arrow" w="med"/>
          </a:ln>
        </p:spPr>
      </p:cxnSp>
      <p:cxnSp>
        <p:nvCxnSpPr>
          <p:cNvPr id="91" name="Прямая со стрелкой 6"/>
          <p:cNvCxnSpPr/>
          <p:nvPr/>
        </p:nvCxnSpPr>
        <p:spPr>
          <a:xfrm>
            <a:off x="5651640" y="1052640"/>
            <a:ext cx="505440" cy="79272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arrow" w="med"/>
          </a:ln>
        </p:spPr>
      </p:cxnSp>
      <p:cxnSp>
        <p:nvCxnSpPr>
          <p:cNvPr id="92" name="Прямая со стрелкой 8"/>
          <p:cNvCxnSpPr/>
          <p:nvPr/>
        </p:nvCxnSpPr>
        <p:spPr>
          <a:xfrm flipH="1">
            <a:off x="4500360" y="1052280"/>
            <a:ext cx="72000" cy="136908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arrow" w="med"/>
          </a:ln>
        </p:spPr>
      </p:cxnSp>
      <p:cxnSp>
        <p:nvCxnSpPr>
          <p:cNvPr id="93" name="Прямая со стрелкой 10"/>
          <p:cNvCxnSpPr/>
          <p:nvPr/>
        </p:nvCxnSpPr>
        <p:spPr>
          <a:xfrm flipH="1">
            <a:off x="3419280" y="4508280"/>
            <a:ext cx="792720" cy="86580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arrow" w="med"/>
          </a:ln>
        </p:spPr>
      </p:cxnSp>
      <p:cxnSp>
        <p:nvCxnSpPr>
          <p:cNvPr id="94" name="Прямая со стрелкой 12"/>
          <p:cNvCxnSpPr/>
          <p:nvPr/>
        </p:nvCxnSpPr>
        <p:spPr>
          <a:xfrm>
            <a:off x="5076720" y="4508280"/>
            <a:ext cx="791280" cy="93708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arrow" w="med"/>
          </a:ln>
        </p:spPr>
      </p:cxn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иды агресс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36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нструментальная (проявляется человеком для достижения определенной цел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Враждебная (направлена на то, чтобы причинить бол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15" descr="agr_03"/>
          <p:cNvPicPr/>
          <p:nvPr/>
        </p:nvPicPr>
        <p:blipFill>
          <a:blip r:embed="rId1"/>
          <a:stretch/>
        </p:blipFill>
        <p:spPr>
          <a:xfrm>
            <a:off x="6372360" y="4005360"/>
            <a:ext cx="2232000" cy="256680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пражнение «Диктат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905040" y="1700280"/>
            <a:ext cx="7333920" cy="381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чины детской агрессивно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болевание центральной нервной системы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грессивность как средство психологической защиты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личные нарушения семейного воспитания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ушение эмоциональных связей в семье как между родителями и ребенком, так и между самими родителями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важение к личности ребенк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рректная и нетактичная критика ребенк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резмерный контроль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ное отсутствие контроля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быток или недостаток внимания со стороны родителей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ушенная исследовательская активность ребенк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чаи, когда за агрессивность принимают что - то другое. Например, детское упрямство (в возрасте 2-4 лет) - «не хочу», «не буду», «я сам» и др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чины детской агрессивно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05264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рет на физическую активность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каз в праве на личную свободу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сознательное ожидание страха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моциональная нестабильность, колебания эмоций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веренность в собственной безопасности в семье, где частые ссоры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овольство собой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ная раздражительность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увство вины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итерии агрессивно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764640"/>
            <a:ext cx="8229600" cy="525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бенок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о теряет контроль над соб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о спорит, ругается с взрослы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о отказывается выполнять прави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о специально раздражает люд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о винит других в своих ошибк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о сердится и отказывается сделать что-либ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о завистлив, мстителе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увствителен, очень быстро реагирует на различные действия окружающих (детей и взрослых), которые нередко раздражают ег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20:42:40Z</dcterms:created>
  <dc:creator> uzer</dc:creator>
  <dc:description/>
  <dc:language>en-US</dc:language>
  <cp:lastModifiedBy>User</cp:lastModifiedBy>
  <dcterms:modified xsi:type="dcterms:W3CDTF">2018-11-23T12:26:48Z</dcterms:modified>
  <cp:revision>30</cp:revision>
  <dc:subject/>
  <dc:title>Агрессивность детей </dc:title>
</cp:coreProperties>
</file>